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D094-731A-43A7-AB7E-2767613DF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9AFC-8742-44B2-A553-38F727BA0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719A61-2A55-4BA6-A7D6-041B7BDF6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12B620-84DD-47C6-B2FC-FA516C8F1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83BB7F-5D7E-4034-8FEC-D0685F679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B8CF21-08BA-480F-A5CD-81F06FD0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226E14-4612-4F20-B0DC-F9764789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524282-BCB1-43ED-9F91-01488246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C11678-E8EA-4563-971C-2EACF24B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E0366F-F592-4370-B480-6C7560572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AAA5DE-2875-4A8A-838A-338802ED0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2A0872-FB7F-4AE0-AF49-C19DDA59F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2AB8-DA14-4237-B8F9-8E02FB85E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EBCDA2-49EB-4C2D-8C05-622E25B8C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3F4089-DB41-4660-8519-C73AFC38B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C4806A-419B-4BD7-B0C9-DF5463D6F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28E570-20F9-42B3-ACFB-710ECB25F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8603CC-21A7-4B66-AAD0-08025EE87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7335C7-C588-4320-BE51-DE6E7197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8212F5-B0BA-4EF2-B93E-43B9F9EA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A9E8DF-6767-495B-9A45-77B3EE00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86DD85-07C3-4228-A6B0-C1A67B4DA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17087D-DF14-4CB5-9D72-74F8DF157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6D84-C783-40D3-ADF2-30D141E4F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48E454-822C-48E6-8647-7344B607A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85DB37-723E-46B5-8600-2A59E2F49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7ABDAF-0192-4159-AB66-461442FEF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D09A72-76D6-4EDB-912E-4F9A2E857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656447-09C6-46C0-A005-54211293F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E31839-4A64-4409-9039-27E4A1629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286E69-0C84-4DF4-B898-054AD25B3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D70AFB-F8AE-4E91-A082-149B0FAC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CDA21B-95AE-48FE-8F9B-8136E256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0FE2A2-79CC-4B37-8497-D1C2ECC0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E8F66-01CE-4144-ABFF-59674B3BD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5B91FA-67FE-459E-AECF-25790B487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79699E-E69A-4DB3-A1D7-14140AEBA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90CAD6-0EF8-4802-88A4-D4C411194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C39BC8-9C9E-4C66-AD18-2AB0780BF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008126-A0E0-4941-A333-52B8752CD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D7FCF4-60E4-401A-9599-EC95B5501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44814F-F505-4C06-91CB-875C6428A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47D445-647B-48D1-A70E-E9BDDA4C6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536499-7870-4A12-BD37-C0287F882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5DC3FF-5367-472F-B68B-52B18CA7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E6AD1-4ACF-4155-8AFD-688DF93D6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5E755D-4626-460B-812B-63F2F746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B5AFBB-671C-400A-9967-4AF94BE6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6E2D69-EC96-40D4-8821-783313DAB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9EF9C6-241F-4D2A-811C-19694D310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E8E3E7-7043-4ACF-83E0-866008178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E0C866-960B-48D5-BA3D-4FC7A5B9E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4439C7-614F-42C0-B7CE-AAD95DBB0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D3BE00-0A02-4EFB-85C6-30E205523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BD4E94-558E-45BD-A831-2E97D9876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A2D1D1-537C-40E4-8CBF-1FA185B04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7957F-16F5-47CE-A8BA-10DDB9047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6C926C-81D9-4CFD-99CE-979887E9D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3E658F-193D-41C4-82BC-32C6EE58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5B76A2-867A-4812-8796-1EBEED81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AA119A-8307-4357-A492-CEDBCE07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A673A3-25ED-4002-A3A7-9084DF16F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784483-79F1-496B-B586-BDB57F41E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F3745D-E831-4C30-B7B1-97D2EA135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53AAE3-37CD-4459-995A-1A4D71162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D01028-2AA5-4E18-96E1-EC9299843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978839-57BA-488E-9ED4-9F6A4BADC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342B9-FAFA-47E3-811C-849B112B2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11E533-9449-447C-AFB6-8EADF211E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7EA66E-6D0B-43D3-8B8A-8918F9721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E34D68-09AF-4E87-8CA9-B4A47F51B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9EB977-1196-479D-83BF-2AAF77C2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4DCDC0-EEBC-482D-AE59-852D6328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786BEF-E866-4D6C-8FE3-1519B30C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D62BF5-6A74-4991-B3EA-37A02A17C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4612A4-325C-4F49-9746-282FDC264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AC442E-28F6-4F8E-B50D-869B3CD54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9281DE-DBEF-48EB-940D-4D9F1E6FB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5DBA9-ADD0-47C4-BDAB-66E0AED1D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7492A3-D7E4-4D21-84F1-57251547D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FD7067-ED5C-437E-95B5-3EF526FBD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62C990-D42D-4E7E-AD16-DFF3E0265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CA0FE1-ABEA-44B6-8435-2AC62FCDE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08B321-1094-4EEE-A417-E52E21010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62B6D9-B784-4954-AB44-C2D3C877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0E7159-B5C0-4FD9-818A-F9DF61F8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8B7B3C-8D7D-4D36-A704-1260AD15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E19F19-B753-451A-98EB-D6C7A3EA3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80A1C2-4FD4-46D2-986B-92496E395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806FC-7FDA-4C29-81AA-BD06B1263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064521-5977-40C4-8CCD-1736A8AC3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8048D8-F224-4E6C-9106-972F64376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EBBF9B-E1D0-416D-B488-07AA49827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FC5C00-1840-43AF-B98D-CCA321F4A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4B382A-A7E3-4E07-948E-209BCF7D7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D6FC63-2C1B-429E-865F-DD05ABA15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09CDEA-EB82-4A96-9169-B89335A55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AD5FF3-ADFE-40F8-9DD2-7EB11744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503C3F-499E-47CF-9874-20F4B184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01AF71-DDDD-4383-B580-A5F61B54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CA6C6-8FE3-47DD-AF0B-D9336DC0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12498A-845B-46BD-9AD1-BE5CF287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77F1D3-7DAE-4640-A292-59F4B0015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F044E2-B464-4B94-A733-5E24007BE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AAE12A-A7AB-470F-A221-BD45C4EB0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A71CD9-9956-46ED-9ABB-504A455D8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8C57F1-0294-4F64-8CF8-0D40496C4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0A3068-BFDD-4198-BA78-D54E5F8B4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EA5BD3-C647-448B-A63D-66BFFC1F1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96B750-CA09-42B0-9010-9DFECCEC6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D14FF5-D08E-49C8-A838-70C23996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1DE9-3174-43A7-A0E6-00F99DE56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2B023-680F-422E-AD27-37DBA518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6248CE-BFBD-4BD4-814C-7A08A68B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E90833-3CE3-45DE-8730-2F21BFB8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6AD1E4-17BA-4F3F-A2C2-D81ACEBB9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6E13EE-FE78-4E2A-BFFA-D235C9D8A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536E59-B4F0-4EC0-986B-2D8EFEB45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7205A6-41D4-49AB-A829-89B3E733C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C5B1A7-52C3-472C-8137-C207951F4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90994D-D6F8-4645-8256-402B735EE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00BE37-CA72-4019-8C9A-35324E2E4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CE07ED-E047-4B1D-9098-0EBD92C11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CE927-181D-4185-A54B-C0C03CB2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98998B-5F48-4F19-96CE-3DE9A49C7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D49422-35BE-47C8-851D-E2508976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9EE631-F949-4D6F-A8D3-C2FED155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5E20A3-7873-4246-84CE-FAAC645A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D5A290-5F84-482C-B2E6-43705B74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29BBCC-4D50-4C2E-880D-77237447A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373F2A-8E83-4710-BB84-AF2E8AF89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24FB89-586C-45E3-9B81-6EE829F03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4A826C-87D0-4CE1-BA95-8A27A6915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13A976-46CA-46D9-92AE-861C53EAF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805A2-50BC-4A16-AAAD-76CC6FDBA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DFA440-853E-4BE7-996B-11AFB7755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63C4EA-172E-4AF9-8E7A-5C85B8CA3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E82131-B698-4551-BE92-52A756B9D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550E69-96AF-48F0-9067-4AD415FD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D47E85-2E98-494B-A395-EAB83C60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8B7E08-D1E8-4173-8502-9B7A9E71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1A61A2-AEBC-454D-B15E-E7D8338A6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699608-798C-4729-B4A3-830913D59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5DCA4A-D732-4AF8-A7C5-10E4AF188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1035ED-0ACB-419A-BFD1-165F2A893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AA0C5-05D9-450F-8C66-57DD40C34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3BC340-9456-4790-A2EF-1EBAA57F3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3437DF-C9F7-495D-9B7E-648BFBD45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12F96D-D780-46FF-B79E-E3B299436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679431-54B9-4BAB-A72F-A548C68E8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12EA11-AA0E-4BBA-BD01-2649E32F6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F0C8DA-8954-44CD-8ABA-A8BECC22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AC5920-50FE-4AD7-AB2E-AEF3FF87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A4A632-713F-47D8-A655-83C105AB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66BFED-6944-42A0-BDB3-2F1A34C77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6F7347-3EDE-4C42-8DA6-9731C2697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31FD0-D9F7-4289-9D26-BBE23C51B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F5E912-A54C-449D-8632-BB0710918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25482D-72EA-43DB-953D-AB830B3D3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408704-7673-4A13-951C-BA401D824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F06AFA-1094-4AE0-8538-1BF14DB64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4C4563-265E-45A0-B02C-637DFD376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3C0B64-41EA-418A-87F5-D8017DF7F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F8BB16-5936-4F4E-960D-3DA323AB7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44EEE0-DE26-4EB7-A374-01EEA82E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920D07-B7D7-48B8-8B8B-ECBE98AF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1EDA56-55B5-43F3-966D-A8F394EA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CA0A9-A451-4FC0-89CA-3446FEE94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4F82A0-A5A3-44BD-9267-142DD9890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44D3D1-4857-4F5E-9D65-9592D9817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AA647D-4A59-4A05-9EBB-A8FDED990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FE8B6-E1AC-496A-89AD-EC2199B40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F7DEA-07CA-4A38-B830-FEA063EC1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ED6C8-9FAD-4ACB-82E7-26C16221A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4A21F-67F5-4F81-BAD1-594AE9630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FA51-C450-444D-B8FA-A55266E52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7F51B-BB84-4E68-9129-9967FBC53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4FE7A-13F1-4FEC-86E4-C3A3E6E8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A0CFF-51A0-424A-93DF-0FB51C50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36064-EA56-41DB-9B01-F5114083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72BD5-4AE7-4528-A1A9-94E729636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4F642-DFA4-41B8-A3EC-0DB9E827D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7A065-E928-494A-BFBD-2A8092335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07F34-536C-4530-82E3-E32409A6F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B3C01-5961-48C8-B39A-36F595F15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558AF-00AB-4555-90F9-2907B7BA2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CBE0-2F12-4C05-A05A-703FA8E5C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C089C-9510-4354-A08F-DD70C333D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2C57E-1934-4BDD-A302-096A3C6D7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A48C4-E300-4DCE-ABEF-EB9BC244A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C74DE-A6DD-45CE-A53E-85EFAEE7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EC712-DD4C-45B1-B423-C4FF26BF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97D85-9E63-49AD-B05D-9827B5EB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5759A-8BD7-403D-9414-69D9D21E6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3FDB1-BD45-4FF5-BB38-FC2DF9B1D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6E3B3-B3A2-4A42-A0C3-94C79D39E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4B0AC-F7A2-4338-8BA6-6124BE3AD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CA4F-A11D-45FC-B19B-7B675D3A0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18CC0-D4BF-45C3-946A-F144DD830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1A90D-0644-40C4-89EB-D16D01FC7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7179F-919D-486B-BA63-6A7616605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B3BB3-DF96-44E3-9BBD-6F8F3538B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46226-1F52-4449-9A37-0B5D3B187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B7A9A-658A-4963-A0DC-1F197D29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6B9AA-5960-4916-8AC6-6C95B7BE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C0279-7AA5-475C-9326-CE3A084E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E04A7-FBB0-4F51-B21D-DDD550636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F3379-D533-41E7-BBF6-8F6EB1069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BB7C-B3CF-4A11-AEDC-35191FAB2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DFE34-D4DF-40B3-94B2-7DD213807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C8552-A2CC-4EBF-AF2C-04D9731B8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ECB53-A6DF-4F91-B5FB-B61B99F44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5E774-D9E5-4D5A-AF69-397A8E3F4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4138A-F80E-4E5C-9B5A-C46354671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D2940-11C7-4639-99FB-04E5D6651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5DA11-ED79-43C7-8E76-FD50661A6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864D5-592A-469A-A533-0BC605B6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0973CF-F19F-4BBC-82DF-C5A5748C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78C76-90A9-443B-BE24-A9E15DC3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B319-6651-44F9-A6CA-F101EA9A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BF9D9-8FE0-4572-AD44-52D8E8A54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4DBB7-30C8-442C-AC2B-68484595C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A2C88-9EDB-497B-BD71-CEEDAB337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38C231-C7EC-4226-AEC7-2E6150CCB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6754A-8835-45E7-8AF4-AB1CF7DAE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B5C79-6567-4A8F-A4E2-4AC108F6F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982AC-188D-4F86-972B-02B8053B8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3519D5-BC86-4867-98B3-D80655116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B5B2A9-7060-4973-BD11-FC8236F43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92DD1-7C97-40B0-A400-39E1D40A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0F89-0466-4AC6-B01B-D9CF9346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E8485F-57DF-4792-98B0-77496F12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6E8C7-1AC2-46D3-8C9D-4E3EF6B2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E0DB9-234C-427B-A598-F242C7D51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154184-EF0E-478C-AEE3-4798F77BD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A66D2-F271-436A-B3A6-007FDD001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1CDC90-5B04-4C97-B678-77D120703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BF23F-E20D-4084-BD9B-197F7C1B0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D9C4DA-0108-4307-AF86-A2F782DB9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321551-A995-45FD-9591-79182DF9C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A266D7-FE01-4994-9146-A8ADBFBCE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8A01-AAFD-488F-9EE1-82208871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3BD729-57F1-41A2-81C4-7303041F4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C3568-D241-4221-A95E-8D703366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100A5D-919C-41CC-A5A0-EB750E94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71BD98-1B3C-437C-8BD5-3000495D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54DB9-3EF0-4873-81E3-869E7D09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E0336-05EB-4243-B475-73DDACD4D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034D0-2A09-46B5-9F4C-AA730D36E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D53E0C-5BC6-4264-85AA-E94A688AD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5FB940-E75E-4B2B-81D0-2E7433D6A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F2B777-73DC-473B-B404-850747D80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9AC57-DDEC-4F58-B129-F58E039CB77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89B63-3518-406A-97A7-33ED42B71F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5E75A-E2AD-492E-96B3-1956E55BCD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782E1-14F5-411E-AB86-0DA3DB36B9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873F0-C8EA-49D2-8E34-F225BBEA9F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A9AFD-B7F8-492D-87DE-3CA9BC99DD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9CF1C-9AFD-40AC-A10A-BEFBF419479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EC68C-D22D-4F60-A897-1D4E0283E2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C158-796D-4FC5-B3A8-D3DD17387C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4DFE6-A9A2-4B93-9039-53E581AC57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1AA23-4009-4BA7-A97A-38F0548C0B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4EC88-A09E-4D0C-84AD-47FDD4504E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48650-D427-48F5-8370-AE922A715E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21523-16F9-4774-8F69-010ECD27D9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A8FAB-3DFB-4822-8BCA-5375AB06E7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CE879-71FF-436E-A485-655CF800A0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BA025-AC38-4761-A192-E60C148989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1DD24-A90F-4CE8-B4D6-CF65B16A3F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E9961-562B-4748-8BC8-E160BE0409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BC804-AA0D-45C8-9F85-74D982EEC2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54B25-B0B8-4321-B0A9-48BA89366E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43D9B-FCAA-4003-A2F6-E72CE4625F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55AED-E771-4AFD-B06C-9EB274FBE0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2A0EC-4458-45AF-B154-666402919A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04C81-A662-43CE-AF70-227BA66AEF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019EB-31CE-4D40-B3BB-1780B59289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511BC-66DE-4A9B-8222-711860E01D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5A906-B623-4737-819E-DD907FC1347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12C80-03FE-4AC5-922E-DD71FD6058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D85C5-8308-40E5-8740-8413815425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C070C-DDE7-4A91-BA09-C3ADA1CE90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B900B-A873-4883-A2F9-B34FA73BAD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416D9-5159-44C2-BEC5-96BA9282C0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F1A82-3C34-4A98-93FB-526FDAC44C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829B-F2E4-4FAA-B396-BD8F334C37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9D891-113B-49AB-994E-F7BA9C8A31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72E80-7908-40D8-80C5-089FAE012BD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965A4-225F-4161-99C9-776F2670C2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D6098-3A75-4026-B98F-5097549E1C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B61A3-AF59-4AA3-85B4-59D717589A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152360" y="3086280"/>
            <a:ext cx="683928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66760" y="1295280"/>
            <a:ext cx="8610480" cy="426744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5076720" y="2938320"/>
            <a:ext cx="1295640" cy="49860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2195640" y="4292640"/>
            <a:ext cx="1295280" cy="49860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7093080" y="4365720"/>
            <a:ext cx="1295280" cy="49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图片 59410" descr=""/>
          <p:cNvPicPr/>
          <p:nvPr/>
        </p:nvPicPr>
        <p:blipFill>
          <a:blip r:embed="rId1"/>
          <a:stretch/>
        </p:blipFill>
        <p:spPr>
          <a:xfrm>
            <a:off x="571680" y="554040"/>
            <a:ext cx="8001000" cy="611496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2"/>
          <a:stretch/>
        </p:blipFill>
        <p:spPr>
          <a:xfrm>
            <a:off x="2556000" y="1211400"/>
            <a:ext cx="720720" cy="4982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3"/>
          <a:stretch/>
        </p:blipFill>
        <p:spPr>
          <a:xfrm>
            <a:off x="4572000" y="1239840"/>
            <a:ext cx="1079640" cy="49860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4"/>
          <a:stretch/>
        </p:blipFill>
        <p:spPr>
          <a:xfrm>
            <a:off x="1692360" y="1916280"/>
            <a:ext cx="720720" cy="4982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5"/>
          <a:stretch/>
        </p:blipFill>
        <p:spPr>
          <a:xfrm>
            <a:off x="3780000" y="1916280"/>
            <a:ext cx="720720" cy="4982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6"/>
          <a:stretch/>
        </p:blipFill>
        <p:spPr>
          <a:xfrm>
            <a:off x="2325600" y="2608200"/>
            <a:ext cx="647640" cy="49860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7"/>
          <a:stretch/>
        </p:blipFill>
        <p:spPr>
          <a:xfrm>
            <a:off x="6227640" y="2679840"/>
            <a:ext cx="648000" cy="4982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8"/>
          <a:stretch/>
        </p:blipFill>
        <p:spPr>
          <a:xfrm>
            <a:off x="2484360" y="3313080"/>
            <a:ext cx="1079640" cy="49860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9"/>
          <a:stretch/>
        </p:blipFill>
        <p:spPr>
          <a:xfrm>
            <a:off x="2771640" y="4005360"/>
            <a:ext cx="1008360" cy="4982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10"/>
          <a:stretch/>
        </p:blipFill>
        <p:spPr>
          <a:xfrm>
            <a:off x="5508720" y="4005360"/>
            <a:ext cx="1008000" cy="4982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11"/>
          <a:stretch/>
        </p:blipFill>
        <p:spPr>
          <a:xfrm>
            <a:off x="3492360" y="4695840"/>
            <a:ext cx="1008360" cy="49860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12"/>
          <a:stretch/>
        </p:blipFill>
        <p:spPr>
          <a:xfrm>
            <a:off x="5997600" y="4724280"/>
            <a:ext cx="1008000" cy="49860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13"/>
          <a:stretch/>
        </p:blipFill>
        <p:spPr>
          <a:xfrm>
            <a:off x="3219480" y="5388120"/>
            <a:ext cx="1008000" cy="4982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14"/>
          <a:stretch/>
        </p:blipFill>
        <p:spPr>
          <a:xfrm>
            <a:off x="5796000" y="5416560"/>
            <a:ext cx="1368360" cy="49860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15"/>
          <a:stretch/>
        </p:blipFill>
        <p:spPr>
          <a:xfrm>
            <a:off x="3203640" y="6107040"/>
            <a:ext cx="1008000" cy="49860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16"/>
          <a:stretch/>
        </p:blipFill>
        <p:spPr>
          <a:xfrm>
            <a:off x="5508720" y="6121440"/>
            <a:ext cx="151128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2" name="图片 58373" descr=""/>
          <p:cNvPicPr/>
          <p:nvPr/>
        </p:nvPicPr>
        <p:blipFill>
          <a:blip r:embed="rId1"/>
          <a:stretch/>
        </p:blipFill>
        <p:spPr>
          <a:xfrm>
            <a:off x="290520" y="1038240"/>
            <a:ext cx="8562960" cy="478152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2"/>
          <a:stretch/>
        </p:blipFill>
        <p:spPr>
          <a:xfrm>
            <a:off x="7596360" y="1844640"/>
            <a:ext cx="720720" cy="49860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3"/>
          <a:stretch/>
        </p:blipFill>
        <p:spPr>
          <a:xfrm>
            <a:off x="7596360" y="3213000"/>
            <a:ext cx="720720" cy="49860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4"/>
          <a:stretch/>
        </p:blipFill>
        <p:spPr>
          <a:xfrm>
            <a:off x="7596360" y="4624560"/>
            <a:ext cx="720720" cy="49824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5"/>
          <a:stretch/>
        </p:blipFill>
        <p:spPr>
          <a:xfrm>
            <a:off x="7596360" y="5300640"/>
            <a:ext cx="72072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图片 57352" descr=""/>
          <p:cNvPicPr/>
          <p:nvPr/>
        </p:nvPicPr>
        <p:blipFill>
          <a:blip r:embed="rId1"/>
          <a:stretch/>
        </p:blipFill>
        <p:spPr>
          <a:xfrm>
            <a:off x="684360" y="189000"/>
            <a:ext cx="7416720" cy="65102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2"/>
          <a:stretch/>
        </p:blipFill>
        <p:spPr>
          <a:xfrm>
            <a:off x="2685960" y="3213000"/>
            <a:ext cx="720720" cy="49860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3"/>
          <a:stretch/>
        </p:blipFill>
        <p:spPr>
          <a:xfrm>
            <a:off x="6286680" y="3213000"/>
            <a:ext cx="720720" cy="49860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4"/>
          <a:stretch/>
        </p:blipFill>
        <p:spPr>
          <a:xfrm>
            <a:off x="2914560" y="6222960"/>
            <a:ext cx="505080" cy="49860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5"/>
          <a:stretch/>
        </p:blipFill>
        <p:spPr>
          <a:xfrm>
            <a:off x="6559560" y="6230880"/>
            <a:ext cx="50472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图片 56324" descr=""/>
          <p:cNvPicPr/>
          <p:nvPr/>
        </p:nvPicPr>
        <p:blipFill>
          <a:blip r:embed="rId1"/>
          <a:stretch/>
        </p:blipFill>
        <p:spPr>
          <a:xfrm>
            <a:off x="281160" y="1090440"/>
            <a:ext cx="8581680" cy="467712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2"/>
          <a:stretch/>
        </p:blipFill>
        <p:spPr>
          <a:xfrm>
            <a:off x="755640" y="3429000"/>
            <a:ext cx="5761080" cy="49860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3"/>
          <a:stretch/>
        </p:blipFill>
        <p:spPr>
          <a:xfrm>
            <a:off x="684360" y="3962520"/>
            <a:ext cx="5760720" cy="49824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4"/>
          <a:stretch/>
        </p:blipFill>
        <p:spPr>
          <a:xfrm>
            <a:off x="611280" y="4565520"/>
            <a:ext cx="8281800" cy="49860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5"/>
          <a:stretch/>
        </p:blipFill>
        <p:spPr>
          <a:xfrm>
            <a:off x="468360" y="5172120"/>
            <a:ext cx="828180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图片 55300" descr=""/>
          <p:cNvPicPr/>
          <p:nvPr/>
        </p:nvPicPr>
        <p:blipFill>
          <a:blip r:embed="rId1"/>
          <a:stretch/>
        </p:blipFill>
        <p:spPr>
          <a:xfrm>
            <a:off x="652320" y="1609560"/>
            <a:ext cx="7839360" cy="36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图片 54276" descr=""/>
          <p:cNvPicPr/>
          <p:nvPr/>
        </p:nvPicPr>
        <p:blipFill>
          <a:blip r:embed="rId1"/>
          <a:stretch/>
        </p:blipFill>
        <p:spPr>
          <a:xfrm>
            <a:off x="743040" y="560520"/>
            <a:ext cx="7657920" cy="618156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2"/>
          <a:stretch/>
        </p:blipFill>
        <p:spPr>
          <a:xfrm>
            <a:off x="1116000" y="1182600"/>
            <a:ext cx="3024360" cy="49860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3"/>
          <a:stretch/>
        </p:blipFill>
        <p:spPr>
          <a:xfrm>
            <a:off x="4356000" y="1197000"/>
            <a:ext cx="3024360" cy="49860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4"/>
          <a:stretch/>
        </p:blipFill>
        <p:spPr>
          <a:xfrm>
            <a:off x="1042920" y="1773360"/>
            <a:ext cx="3024360" cy="49824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5"/>
          <a:stretch/>
        </p:blipFill>
        <p:spPr>
          <a:xfrm>
            <a:off x="900000" y="2320920"/>
            <a:ext cx="4896000" cy="49860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6"/>
          <a:stretch/>
        </p:blipFill>
        <p:spPr>
          <a:xfrm>
            <a:off x="755640" y="2924280"/>
            <a:ext cx="7777080" cy="49824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7"/>
          <a:stretch/>
        </p:blipFill>
        <p:spPr>
          <a:xfrm>
            <a:off x="1187280" y="4451400"/>
            <a:ext cx="3384720" cy="49860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8"/>
          <a:stretch/>
        </p:blipFill>
        <p:spPr>
          <a:xfrm>
            <a:off x="4859280" y="4508640"/>
            <a:ext cx="3384720" cy="49824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9"/>
          <a:stretch/>
        </p:blipFill>
        <p:spPr>
          <a:xfrm>
            <a:off x="971640" y="5084640"/>
            <a:ext cx="3384360" cy="49860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10"/>
          <a:stretch/>
        </p:blipFill>
        <p:spPr>
          <a:xfrm>
            <a:off x="971640" y="5632560"/>
            <a:ext cx="6913440" cy="49824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11"/>
          <a:stretch/>
        </p:blipFill>
        <p:spPr>
          <a:xfrm>
            <a:off x="1042920" y="6208560"/>
            <a:ext cx="691380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9" name="图片 52231" descr=""/>
          <p:cNvPicPr/>
          <p:nvPr/>
        </p:nvPicPr>
        <p:blipFill>
          <a:blip r:embed="rId1"/>
          <a:stretch/>
        </p:blipFill>
        <p:spPr>
          <a:xfrm>
            <a:off x="290520" y="115920"/>
            <a:ext cx="8242200" cy="655488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2"/>
          <a:stretch/>
        </p:blipFill>
        <p:spPr>
          <a:xfrm>
            <a:off x="755640" y="4479840"/>
            <a:ext cx="5832360" cy="49860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3"/>
          <a:stretch/>
        </p:blipFill>
        <p:spPr>
          <a:xfrm>
            <a:off x="684360" y="5013360"/>
            <a:ext cx="5832360" cy="49860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4"/>
          <a:stretch/>
        </p:blipFill>
        <p:spPr>
          <a:xfrm>
            <a:off x="826920" y="5589720"/>
            <a:ext cx="5832720" cy="49824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5"/>
          <a:stretch/>
        </p:blipFill>
        <p:spPr>
          <a:xfrm>
            <a:off x="755640" y="6149880"/>
            <a:ext cx="583236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7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2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1:20:31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